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29.jpeg" ContentType="image/jpeg"/>
  <Override PartName="/ppt/media/image11.png" ContentType="image/png"/>
  <Override PartName="/ppt/media/image8.gif" ContentType="image/gif"/>
  <Override PartName="/ppt/media/image1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26.jpeg" ContentType="image/jpeg"/>
  <Override PartName="/ppt/media/image18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5297D-F73F-49C4-A4FA-1EE9009171C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17E1-6168-4E09-8F0F-B02D554FAAE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B7183-7F98-4E26-9986-A29CA2772B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0F666-2B5E-4861-8DC2-B25F7556754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FBE5-CD3B-4358-9FBF-D2D25FC396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72A-F307-4EF0-ADCF-7C884708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CDC-C368-4AC8-9927-8BE5E05D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097-267F-48B8-8EBE-8BD7442B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437-BC7E-4842-A076-438820F2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6D1-B172-4511-AE3C-EB247C3C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E08-41B9-4C30-9DE8-213B533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C45-648B-4886-B419-BE61D01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6BA-1FDF-4F69-96D8-B4588402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432-B91D-4F40-8A57-158F7DE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40D-D230-464C-BF1E-B0AAAAC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C17-0E1A-432B-B4A0-F6EE100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C3E-31E2-4F35-9AC9-3F1B2D04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788-5B87-4A7E-8A26-33B5BE95EC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10480" y="27936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ic. en Biol. Molec.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OGENO. Glucog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lisis. Enzimas. Regulación. Glucogeno-génesis. Enzimas. Glucogenina. Control hormonal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6 (Ing. en Alim.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iosíntesis de carbohidratos. Gluconeogénesis: Ubicación celular, reacciones irreversibles, su regulación. Importancia metabólica. Regulación recíproca de glucólisis y gluconeogénesis.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ógeno: Síntesis y degradación. Regulación enzimátic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almidón. Síntesis y degrad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68360" y="4046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99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</a:rPr>
              <a:t>Fosforilasa “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degradación limitada”: 5 residuos de una rama y 3 de la otra, antes del punto de ram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Enlaces </a:t>
            </a:r>
            <a:r>
              <a:rPr b="1" lang="es-CO" sz="24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1,6) no susceptibles a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758880" y="2327400"/>
            <a:ext cx="7845480" cy="2528640"/>
            <a:chOff x="758880" y="2327400"/>
            <a:chExt cx="7845480" cy="2528640"/>
          </a:xfrm>
        </p:grpSpPr>
        <p:pic>
          <p:nvPicPr>
            <p:cNvPr id="96" name="Picture 4" descr=""/>
            <p:cNvPicPr/>
            <p:nvPr/>
          </p:nvPicPr>
          <p:blipFill>
            <a:blip r:embed="rId1"/>
            <a:srcRect l="-1826" t="-1239" r="0" b="67651"/>
            <a:stretch/>
          </p:blipFill>
          <p:spPr>
            <a:xfrm>
              <a:off x="758880" y="2327400"/>
              <a:ext cx="7845480" cy="25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Oval 5"/>
            <p:cNvSpPr/>
            <p:nvPr/>
          </p:nvSpPr>
          <p:spPr>
            <a:xfrm>
              <a:off x="1679400" y="375300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2657520" y="374976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2158920" y="375588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2392200" y="252108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2928960" y="252720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909720" y="252396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1887480" y="2521080"/>
              <a:ext cx="360360" cy="26172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1389240" y="2527200"/>
              <a:ext cx="360360" cy="2620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3" descr=""/>
          <p:cNvPicPr/>
          <p:nvPr/>
        </p:nvPicPr>
        <p:blipFill>
          <a:blip r:embed="rId2"/>
          <a:srcRect l="0" t="31635" r="0" b="47720"/>
          <a:stretch/>
        </p:blipFill>
        <p:spPr>
          <a:xfrm>
            <a:off x="900000" y="4941720"/>
            <a:ext cx="770436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200560" y="279720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1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 u="sng">
                <a:solidFill>
                  <a:srgbClr val="ff0000"/>
                </a:solidFill>
                <a:uFillTx/>
                <a:latin typeface="Arial"/>
              </a:rPr>
              <a:t>Enzima desramifica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333399"/>
                </a:solidFill>
                <a:latin typeface="Arial"/>
              </a:rPr>
              <a:t>Actividad transferasa</a:t>
            </a:r>
            <a:r>
              <a:rPr b="1" lang="es-CO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s-CO" sz="2200" spc="-1" strike="noStrike">
                <a:solidFill>
                  <a:srgbClr val="000000"/>
                </a:solidFill>
                <a:latin typeface="Arial"/>
              </a:rPr>
              <a:t>traslada un bloque de 3 residuos desde una rama a la ot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333399"/>
                </a:solidFill>
                <a:latin typeface="Arial"/>
              </a:rPr>
              <a:t>Actividad glucosidasa</a:t>
            </a:r>
            <a:r>
              <a:rPr b="1" lang="es-CO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s-CO" sz="2200" spc="-1" strike="noStrike">
                <a:solidFill>
                  <a:srgbClr val="000000"/>
                </a:solidFill>
                <a:latin typeface="Arial"/>
              </a:rPr>
              <a:t>enlaces </a:t>
            </a:r>
            <a:r>
              <a:rPr b="1" lang="es-CO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O" sz="2200" spc="-1" strike="noStrike">
                <a:solidFill>
                  <a:srgbClr val="000000"/>
                </a:solidFill>
                <a:latin typeface="Arial"/>
              </a:rPr>
              <a:t>(1,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0" t="31890" r="0" b="0"/>
          <a:stretch/>
        </p:blipFill>
        <p:spPr>
          <a:xfrm>
            <a:off x="755640" y="1989000"/>
            <a:ext cx="7201080" cy="4608720"/>
          </a:xfrm>
          <a:prstGeom prst="rect">
            <a:avLst/>
          </a:prstGeom>
          <a:ln w="0">
            <a:noFill/>
          </a:ln>
        </p:spPr>
      </p:pic>
      <p:sp>
        <p:nvSpPr>
          <p:cNvPr id="109" name="Oval 4"/>
          <p:cNvSpPr/>
          <p:nvPr/>
        </p:nvSpPr>
        <p:spPr>
          <a:xfrm>
            <a:off x="4422600" y="2171880"/>
            <a:ext cx="263880" cy="23796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6153120" y="5289480"/>
            <a:ext cx="263520" cy="23832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4425840" y="3784680"/>
            <a:ext cx="263520" cy="237960"/>
          </a:xfrm>
          <a:prstGeom prst="ellipse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2952720" y="218772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3930480" y="218448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3432240" y="2190600"/>
            <a:ext cx="263520" cy="2383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1463760" y="4546440"/>
            <a:ext cx="263520" cy="2383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441520" y="454356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1943280" y="4549680"/>
            <a:ext cx="263520" cy="2383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1515960" y="602784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94080" y="602460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1995480" y="6031080"/>
            <a:ext cx="263520" cy="2379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324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187280" y="3500280"/>
            <a:ext cx="3116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Transferenc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Enzima 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572000" y="32590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s-CO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1,4</a:t>
            </a:r>
            <a:r>
              <a:rPr b="1" lang="es-CO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CO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1,4) glucan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19520" y="4917960"/>
            <a:ext cx="18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s-CO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s-CO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31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32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38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Rectangle 20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55640" y="549360"/>
            <a:ext cx="73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68360" y="404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fuente de glucosa para los tejidos extrahepáticos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incluido el músculo esquelético, ante un descenso de la gluc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785960" y="2500200"/>
            <a:ext cx="5518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Picture 2" descr="fi12p13"/>
            <p:cNvPicPr/>
            <p:nvPr/>
          </p:nvPicPr>
          <p:blipFill>
            <a:blip r:embed="rId1"/>
            <a:srcRect l="0" t="0" r="0" b="1918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"/>
            <p:cNvSpPr/>
            <p:nvPr/>
          </p:nvSpPr>
          <p:spPr>
            <a:xfrm>
              <a:off x="324000" y="260280"/>
              <a:ext cx="203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0066"/>
                  </a:solidFill>
                  <a:latin typeface="Arial Rounded MT Bold"/>
                </a:rPr>
                <a:t>Regulación horm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4361040" y="44280"/>
              <a:ext cx="150624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Horm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(prim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mensajer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5727600" y="907920"/>
              <a:ext cx="2300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pacio extra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718160" y="2781360"/>
              <a:ext cx="10062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ns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Proteína 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2"/>
            <p:cNvSpPr/>
            <p:nvPr/>
          </p:nvSpPr>
          <p:spPr>
            <a:xfrm>
              <a:off x="6443640" y="3789360"/>
              <a:ext cx="1152720" cy="84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6516720" y="3860640"/>
              <a:ext cx="1079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M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gu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nsajer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6227640" y="1989000"/>
              <a:ext cx="1009800" cy="1152720"/>
            </a:xfrm>
            <a:prstGeom prst="ellipse">
              <a:avLst/>
            </a:prstGeom>
            <a:solidFill>
              <a:srgbClr val="ede3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6227640" y="2214720"/>
              <a:ext cx="935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(Adenil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ciclas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6012000" y="5113440"/>
              <a:ext cx="93492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in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6948360" y="5229360"/>
              <a:ext cx="108108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6"/>
            <p:cNvSpPr/>
            <p:nvPr/>
          </p:nvSpPr>
          <p:spPr>
            <a:xfrm>
              <a:off x="6948360" y="6121440"/>
              <a:ext cx="129564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osforilación de la proteína bl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4067280" y="6165720"/>
              <a:ext cx="129528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espuesta Metabó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4356000" y="3936960"/>
              <a:ext cx="1511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Fosfodiest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9"/>
            <p:cNvSpPr/>
            <p:nvPr/>
          </p:nvSpPr>
          <p:spPr>
            <a:xfrm>
              <a:off x="2843280" y="4508640"/>
              <a:ext cx="9367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9900"/>
                  </a:solidFill>
                  <a:latin typeface="Arial"/>
                </a:rPr>
                <a:t>Teofi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33"/>
                  </a:solidFill>
                  <a:latin typeface="Arial"/>
                </a:rPr>
                <a:t>Cafe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0"/>
            <p:cNvSpPr/>
            <p:nvPr/>
          </p:nvSpPr>
          <p:spPr>
            <a:xfrm>
              <a:off x="395280" y="6021360"/>
              <a:ext cx="1728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acti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1"/>
            <p:cNvSpPr/>
            <p:nvPr/>
          </p:nvSpPr>
          <p:spPr>
            <a:xfrm>
              <a:off x="395280" y="6456240"/>
              <a:ext cx="1655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inhib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23"/>
          <p:cNvSpPr/>
          <p:nvPr/>
        </p:nvSpPr>
        <p:spPr>
          <a:xfrm>
            <a:off x="2616120" y="3933720"/>
            <a:ext cx="3241800" cy="16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20001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HORM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egundo mensajero (celular) de la acción hormonal es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P cíclico (AMPc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que es sintetizado por la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enilato cicl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structuracamp"/>
          <p:cNvPicPr/>
          <p:nvPr/>
        </p:nvPicPr>
        <p:blipFill>
          <a:blip r:embed="rId1"/>
          <a:srcRect l="7144" t="0" r="52025" b="54803"/>
          <a:stretch/>
        </p:blipFill>
        <p:spPr>
          <a:xfrm>
            <a:off x="5364000" y="260280"/>
            <a:ext cx="349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53" name="Picture 4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1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713120" y="115920"/>
            <a:ext cx="200196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74760" y="44280"/>
            <a:ext cx="4702320" cy="6756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2204280" y="260280"/>
            <a:ext cx="928800" cy="274680"/>
          </a:xfrm>
          <a:prstGeom prst="rect">
            <a:avLst/>
          </a:prstGeom>
          <a:solidFill>
            <a:srgbClr val="f2f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957280" y="260280"/>
            <a:ext cx="776520" cy="274680"/>
          </a:xfrm>
          <a:prstGeom prst="rect">
            <a:avLst/>
          </a:prstGeom>
          <a:solidFill>
            <a:srgbClr val="f2e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2268360" y="2421000"/>
            <a:ext cx="57492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2268360" y="3718080"/>
            <a:ext cx="57492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5580000" y="2060640"/>
            <a:ext cx="287280" cy="4321080"/>
            <a:chOff x="5580000" y="2060640"/>
            <a:chExt cx="287280" cy="4321080"/>
          </a:xfrm>
        </p:grpSpPr>
        <p:sp>
          <p:nvSpPr>
            <p:cNvPr id="178" name="Line 11"/>
            <p:cNvSpPr/>
            <p:nvPr/>
          </p:nvSpPr>
          <p:spPr>
            <a:xfrm>
              <a:off x="5580000" y="206064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5651640" y="270828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>
              <a:off x="5724360" y="3429000"/>
              <a:ext cx="0" cy="43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5867280" y="4149720"/>
              <a:ext cx="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5867280" y="5373720"/>
              <a:ext cx="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7"/>
          <p:cNvSpPr/>
          <p:nvPr/>
        </p:nvSpPr>
        <p:spPr>
          <a:xfrm>
            <a:off x="3059280" y="5734080"/>
            <a:ext cx="144144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4643280" y="5734080"/>
            <a:ext cx="1152720" cy="719280"/>
          </a:xfrm>
          <a:prstGeom prst="rect">
            <a:avLst/>
          </a:prstGeom>
          <a:noFill/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1403280" y="1644480"/>
            <a:ext cx="1216800" cy="779400"/>
            <a:chOff x="1403280" y="1644480"/>
            <a:chExt cx="1216800" cy="779400"/>
          </a:xfrm>
        </p:grpSpPr>
        <p:sp>
          <p:nvSpPr>
            <p:cNvPr id="187" name="Line 7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1410480" y="17812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190" name="Line 10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6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193" name="Arc 12"/>
            <p:cNvSpPr/>
            <p:nvPr/>
          </p:nvSpPr>
          <p:spPr>
            <a:xfrm>
              <a:off x="5722920" y="1427040"/>
              <a:ext cx="1440000" cy="360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196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7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20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5 Rectángulo"/>
          <p:cNvSpPr/>
          <p:nvPr/>
        </p:nvSpPr>
        <p:spPr>
          <a:xfrm>
            <a:off x="729720" y="123336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uego de una co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203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207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11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15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restos de glucosa, utilizando una molécula donadora de restos de glucosa: la 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28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2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2" name="Text Box 9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Polimerización: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39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4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Oval 13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14"/>
          <p:cNvSpPr/>
          <p:nvPr/>
        </p:nvSpPr>
        <p:spPr>
          <a:xfrm>
            <a:off x="2987640" y="1341360"/>
            <a:ext cx="2232000" cy="1656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68436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El cebador de la glucógeno sintasa es una cadena corta de residuos de glucosa ensamblados por una proteína denominada glucogen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48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59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9"/>
            <p:cNvSpPr/>
            <p:nvPr/>
          </p:nvSpPr>
          <p:spPr>
            <a:xfrm flipH="1">
              <a:off x="5509440" y="4292640"/>
              <a:ext cx="776520" cy="1117440"/>
            </a:xfrm>
            <a:prstGeom prst="pie">
              <a:avLst/>
            </a:pr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rc 20"/>
            <p:cNvSpPr/>
            <p:nvPr/>
          </p:nvSpPr>
          <p:spPr>
            <a:xfrm flipH="1">
              <a:off x="2195640" y="4327560"/>
              <a:ext cx="776160" cy="1117440"/>
            </a:xfrm>
            <a:prstGeom prst="pie">
              <a:avLst/>
            </a:pr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2"/>
            <p:cNvSpPr/>
            <p:nvPr/>
          </p:nvSpPr>
          <p:spPr>
            <a:xfrm flipH="1">
              <a:off x="3924360" y="4255920"/>
              <a:ext cx="776160" cy="1117800"/>
            </a:xfrm>
            <a:prstGeom prst="pie">
              <a:avLst/>
            </a:pr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124000" y="40464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4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grpSp>
          <p:nvGrpSpPr>
            <p:cNvPr id="275" name="Group 9"/>
            <p:cNvGrpSpPr/>
            <p:nvPr/>
          </p:nvGrpSpPr>
          <p:grpSpPr>
            <a:xfrm>
              <a:off x="227160" y="2205000"/>
              <a:ext cx="8665920" cy="3168720"/>
              <a:chOff x="227160" y="2205000"/>
              <a:chExt cx="8665920" cy="3168720"/>
            </a:xfrm>
          </p:grpSpPr>
          <p:pic>
            <p:nvPicPr>
              <p:cNvPr id="276" name="Picture 4" descr="fi16p10"/>
              <p:cNvPicPr/>
              <p:nvPr/>
            </p:nvPicPr>
            <p:blipFill>
              <a:blip r:embed="rId1"/>
              <a:stretch/>
            </p:blipFill>
            <p:spPr>
              <a:xfrm>
                <a:off x="227160" y="2281320"/>
                <a:ext cx="866592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Rectangle 8"/>
              <p:cNvSpPr/>
              <p:nvPr/>
            </p:nvSpPr>
            <p:spPr>
              <a:xfrm>
                <a:off x="4788000" y="2205000"/>
                <a:ext cx="3097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11"/>
            <p:cNvSpPr/>
            <p:nvPr/>
          </p:nvSpPr>
          <p:spPr>
            <a:xfrm>
              <a:off x="6237360" y="3419640"/>
              <a:ext cx="246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milo </a:t>
              </a:r>
              <a:r>
                <a:rPr b="1" i="1" lang="el-G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1,4 →1,6)-glucosi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transferas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3410280" y="4869000"/>
              <a:ext cx="101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Extre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no reduc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3"/>
            <p:cNvSpPr/>
            <p:nvPr/>
          </p:nvSpPr>
          <p:spPr>
            <a:xfrm>
              <a:off x="7882920" y="4005360"/>
              <a:ext cx="90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l-GR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-1,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3"/>
          <p:cNvSpPr/>
          <p:nvPr/>
        </p:nvSpPr>
        <p:spPr>
          <a:xfrm>
            <a:off x="539640" y="404640"/>
            <a:ext cx="78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 Rounded MT Bold"/>
              </a:rPr>
              <a:t>Ram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 [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0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transglucosidasa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]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0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rc 7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rcRect l="0" t="0" r="0" b="45278"/>
          <a:stretch/>
        </p:blipFill>
        <p:spPr>
          <a:xfrm>
            <a:off x="324000" y="476280"/>
            <a:ext cx="4032000" cy="5713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rcRect l="0" t="39290" r="0" b="0"/>
          <a:stretch/>
        </p:blipFill>
        <p:spPr>
          <a:xfrm>
            <a:off x="4716360" y="476280"/>
            <a:ext cx="37432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3186000" y="61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2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90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AutoShape 13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4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95" name="AutoShape 12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rc 18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5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5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00" name="AutoShape 19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6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3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06" name="Line 27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4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09" name="Line 30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1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2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313" name="Text Box 5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6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8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3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318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6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1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26" name="Line 9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2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29" name="Line 12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rc 14"/>
          <p:cNvSpPr/>
          <p:nvPr/>
        </p:nvSpPr>
        <p:spPr>
          <a:xfrm flipH="1">
            <a:off x="5363280" y="73080"/>
            <a:ext cx="2232360" cy="476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11960" y="1523880"/>
            <a:ext cx="185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0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34" name="Line 16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1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37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3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en 2" descr="C:\Users\Fanny\Documents\CLASES NUTRICIÓN\Clases Biologica I\Metabolismo del glucogeno\CLASE metab glucogeno_21.jpg"/>
          <p:cNvPicPr/>
          <p:nvPr/>
        </p:nvPicPr>
        <p:blipFill>
          <a:blip r:embed="rId1"/>
          <a:stretch/>
        </p:blipFill>
        <p:spPr>
          <a:xfrm>
            <a:off x="609480" y="453960"/>
            <a:ext cx="802332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5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6"/>
          <p:cNvGrpSpPr/>
          <p:nvPr/>
        </p:nvGrpSpPr>
        <p:grpSpPr>
          <a:xfrm>
            <a:off x="950400" y="1700280"/>
            <a:ext cx="6788520" cy="459720"/>
            <a:chOff x="950400" y="1700280"/>
            <a:chExt cx="6788520" cy="459720"/>
          </a:xfrm>
        </p:grpSpPr>
        <p:sp>
          <p:nvSpPr>
            <p:cNvPr id="69" name="Text Box 5"/>
            <p:cNvSpPr/>
            <p:nvPr/>
          </p:nvSpPr>
          <p:spPr>
            <a:xfrm>
              <a:off x="562896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9504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9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72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17"/>
          <p:cNvGrpSpPr/>
          <p:nvPr/>
        </p:nvGrpSpPr>
        <p:grpSpPr>
          <a:xfrm>
            <a:off x="611640" y="3141720"/>
            <a:ext cx="8206560" cy="459720"/>
            <a:chOff x="611640" y="3141720"/>
            <a:chExt cx="8206560" cy="459720"/>
          </a:xfrm>
        </p:grpSpPr>
        <p:sp>
          <p:nvSpPr>
            <p:cNvPr id="75" name="Text Box 10"/>
            <p:cNvSpPr/>
            <p:nvPr/>
          </p:nvSpPr>
          <p:spPr>
            <a:xfrm>
              <a:off x="611640" y="314172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5286240" y="314172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2"/>
            <p:cNvGrpSpPr/>
            <p:nvPr/>
          </p:nvGrpSpPr>
          <p:grpSpPr>
            <a:xfrm>
              <a:off x="3635280" y="3284640"/>
              <a:ext cx="1655640" cy="144360"/>
              <a:chOff x="3635280" y="3284640"/>
              <a:chExt cx="1655640" cy="144360"/>
            </a:xfrm>
          </p:grpSpPr>
          <p:sp>
            <p:nvSpPr>
              <p:cNvPr id="78" name="Line 13"/>
              <p:cNvSpPr/>
              <p:nvPr/>
            </p:nvSpPr>
            <p:spPr>
              <a:xfrm>
                <a:off x="3706920" y="328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3635280" y="342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 cuidadosamente regulada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16000" y="219240"/>
            <a:ext cx="8928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NECESIDAD DE GLUCOSA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ENTRE COM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CTIVIDAD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IN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HIGADO Y MÚSCULO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EPOSITOS O RESERV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</a:t>
            </a: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121360" y="214200"/>
            <a:ext cx="395136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Line 4"/>
          <p:cNvSpPr/>
          <p:nvPr/>
        </p:nvSpPr>
        <p:spPr>
          <a:xfrm flipV="1">
            <a:off x="4572000" y="2356920"/>
            <a:ext cx="100008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85" name="Line 4"/>
          <p:cNvSpPr/>
          <p:nvPr/>
        </p:nvSpPr>
        <p:spPr>
          <a:xfrm>
            <a:off x="6215040" y="2714760"/>
            <a:ext cx="928800" cy="192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847960" y="7614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1700280"/>
            <a:ext cx="7993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degradación de glucógeno a glucosa disponible metabólicamente (Glu-6-P) tiene lugar en 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citoso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4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glucogenofosforilasa"/>
          <p:cNvPicPr/>
          <p:nvPr/>
        </p:nvPicPr>
        <p:blipFill>
          <a:blip r:embed="rId1"/>
          <a:srcRect l="0" t="0" r="19750" b="34060"/>
          <a:stretch/>
        </p:blipFill>
        <p:spPr>
          <a:xfrm>
            <a:off x="1187280" y="0"/>
            <a:ext cx="625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03120" y="13644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cc"/>
                </a:solidFill>
                <a:latin typeface="Arial"/>
              </a:rPr>
              <a:t>DEGRADACION DE GLUCOGENO DE RESERVA</a:t>
            </a: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 (Músculo esquelético e hí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468360" y="981000"/>
            <a:ext cx="8064360" cy="5256360"/>
            <a:chOff x="468360" y="981000"/>
            <a:chExt cx="8064360" cy="525636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80643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5"/>
            <p:cNvSpPr/>
            <p:nvPr/>
          </p:nvSpPr>
          <p:spPr>
            <a:xfrm>
              <a:off x="3795840" y="3021120"/>
              <a:ext cx="1428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181080" y="609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.C 2.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8:40Z</dcterms:created>
  <dc:creator>ciencias</dc:creator>
  <dc:description/>
  <dc:language>en-US</dc:language>
  <cp:lastModifiedBy>Your User Name</cp:lastModifiedBy>
  <dcterms:modified xsi:type="dcterms:W3CDTF">2012-09-18T00:16:04Z</dcterms:modified>
  <cp:revision>59</cp:revision>
  <dc:subject/>
  <dc:title>Diapositiva 1</dc:title>
</cp:coreProperties>
</file>